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40BA-3021-47CF-9D6C-6D5A1647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FCF-8D17-4BB9-A6E3-AB9662C4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D802-B428-4924-ACBF-1BE904AB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65D2-9EC4-4862-A6EC-42D00F62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AA07-D4A5-4F92-A10C-C0BC8EE2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BF76-DAC4-4AB1-BB31-4B2DA2B6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C301-15DB-468A-BE5C-09A7B020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0B76-5DBA-47AD-8802-17B8887A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762E-F8AE-42BF-ABA6-4AF0D392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57FD-C368-4A96-B9AE-4578476D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7F4D-CB52-43A6-AA55-9C3DE212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3534-1339-4317-8412-F0968BDC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C2D6-C499-4EBD-85B0-880C54A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FD36-AF8A-42BE-894E-EFA33C7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A19B-14AF-4ADB-A2E1-DAF7416E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2374-00FC-43F2-80F7-4900FC39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B545-97AF-4D7F-9B11-E8448BDB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615-008F-4BC7-A45E-4127AA57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21C-0FAA-4178-AEB2-0FD12309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077-47EF-476C-AED8-3CD19237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430-9B64-4BE0-821D-4EBEC26E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F53-E4BD-4AD8-9CDF-7B4A2D23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2D2-92B4-46AB-94F8-AEFD6B9A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CA5-C569-48E8-ABAA-2D7A43BC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7842-FBF7-498A-951F-AEFAA0367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389F-0826-4F68-829E-BF8087478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Co-Teaching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delphi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203280" cy="287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rge Group – Small Group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 teacher can take either role (one leads the small group and one the lar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groups could be divided homogeneously and one could leave the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may be beneficial if the content needs many adaptations or accommodations to meet the needs of the students with learning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g – Team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pproach needs ample planning in order to be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s cooperation and teamwork within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o-teacher will take over the lesson at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voices are heard throughout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oles and Responsibilities in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o-Teach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13120" cy="34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sibilities of Inclusion Team Memb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 Curr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iver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ss Student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de / Evalu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ep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en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/ Adapt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Instructional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8320" y="1641240"/>
            <a:ext cx="4114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ilitate Test Mod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Teach / Reinforce Les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Emotional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816280" y="1687680"/>
            <a:ext cx="3508200" cy="3482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0400" y="838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ent Area Specia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 Educ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72200" y="4419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ing Assistant Teacher A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structional Strateg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-2851" t="11701" r="12061" b="25109"/>
          <a:stretch/>
        </p:blipFill>
        <p:spPr>
          <a:xfrm>
            <a:off x="2133720" y="1600200"/>
            <a:ext cx="49370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rse Outline / Unit Assignment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ck to a routine throughout the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quire students to use a three-ring binder; make sure all handouts are hole-pun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e inclusion students evenly i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rain from confronting students in front of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 sure teachers and TA’s have copies of test modifications (Chapter 40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uct notebook checks regul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graphic organ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an interactive study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gn critical vocabulary words and concepts at the beginning of a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notes on board from left to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rvey the class before erasing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 outlin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homework assignments consistently in the same place or utilize a weekly assignment 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vide review guides for ex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upport Strategies for Inclusion Classroom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30600" y="2438280"/>
            <a:ext cx="3670200" cy="361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312" t="0" r="10830" b="34372"/>
          <a:stretch/>
        </p:blipFill>
        <p:spPr>
          <a:xfrm>
            <a:off x="1333440" y="152280"/>
            <a:ext cx="65912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rrangemen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operative Learn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ired Reading / 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duced se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seating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Behavior Plan/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3809880" cy="35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aterials / Equip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s on t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s,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orders (Ipod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ion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rs / laptops (Ne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303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urriculum Aid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y Gu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cabulary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 Idea Summ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iting Process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-Written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ational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eletal Out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light Reading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sensory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dividualized Sup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ilitation (communication, movement, think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ened / Modified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l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Notebook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-word, Re-phrase Instructions/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cture 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le Intellig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ent Involve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65360" y="1600200"/>
            <a:ext cx="330192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parents want…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open house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s in the student’s pl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hand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ear and concise homework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“bag of tricks” to use at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 to know their child’s learning style and I.E.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aluate the Inclusion Mode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ent, teacher, parent question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A and Math Assessments (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&amp;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cial Studies and Science (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d collaboration and reflective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15677" t="11405" r="8878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0571" t="10531" r="10764" b="19271"/>
          <a:stretch/>
        </p:blipFill>
        <p:spPr>
          <a:xfrm>
            <a:off x="1447920" y="76320"/>
            <a:ext cx="6514920" cy="655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ffective Practic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-Teach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ized support within the heterogeneous, general education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education and general education teachers meet, plan, and teach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ations in materials, methodology, presentation, and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nefits students with disabilities, at-risk students, and higher functioning students simultaneous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x Examples of Cooperative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Ob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Flo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llel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Group – Smal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g – Team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- Observe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presents material to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Educator makes purposeful observations about a student or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teria is determined before-hand and discussed 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– Floater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used co-teaching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 Area teacher delivers the material while the special educator floats around the room addressing individual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educator also clarifies directions, asks questions, and facilitates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allel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h teachers are presenting the material simultaneously to a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roups can be divided either heterogeneously or homoge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allows for a smaller student to teacher ratio and more individualized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tion Approa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gnal is needed to divide clas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teacher is presenting a different portion of content material to a different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the signal, the groups 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22:29:11Z</dcterms:created>
  <dc:creator>Whittney Smith</dc:creator>
  <dc:description/>
  <dc:language>en-US</dc:language>
  <cp:lastModifiedBy>User</cp:lastModifiedBy>
  <dcterms:modified xsi:type="dcterms:W3CDTF">2010-03-04T16:35:56Z</dcterms:modified>
  <cp:revision>16</cp:revision>
  <dc:subject/>
  <dc:title>PowerPoint Presentation</dc:title>
</cp:coreProperties>
</file>